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CD302-3B45-4E4C-828A-9DEB0DD2ADB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5E219-9C8A-4BF9-8EEB-FB0E4F5FBF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26556-2BB6-4F0E-8992-F2CB8FFF24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6F415-D2CE-4E95-BBAD-36876B10FD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84162-D8D0-46BC-8C43-FCF821C159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B18F8-C448-408F-A619-C4C33766FC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77793-9D24-4505-A586-571E643DFF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5427F-D8E6-491A-AD42-1CB69FC008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4CF29-48C3-4590-A634-40C5DE3A744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25920-214A-4CFC-8425-6B63407A034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A7211-8385-40EC-9507-6377A508A1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49052-136F-4B62-AF07-AF17B6FE50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E3FDF-3782-4F7F-AD72-5F06F8EAB1D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7AFBA-925C-4C1E-9175-3DB72AD1636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5F12D-D51A-4925-BCD5-CA9917721B5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9B0CF-18B4-45A9-8A0D-940913EBBA6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D5904-D9ED-470D-A4AD-8748C0A94A5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2691C-7259-4C65-BAED-AD66D001482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B6D11-E810-4C78-9E11-5527129BE3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C70DD-AC45-4F60-BBC0-87CBAA55E4F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1D01A-8480-434E-AE14-C641383B75D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27D-5F1F-4DEB-A172-2B869BBB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3C5-6F88-4DC1-BCBA-C2549570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B0E-5E6F-4560-8D92-53E7C3E4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5BC-4220-44CB-BA26-5D18CAC8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84D6-47BE-405D-A65D-13CDD70B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EAC0-778C-4A24-A07E-9D3E8E28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412B-94DF-4804-B635-F1FEEC36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CBD8-B18C-4913-9D74-201B0F8F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4AF1-2775-44BE-82CD-059F08FF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8E5B-B354-4496-B375-2E28594B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2CCA-80B3-4893-B59A-230E76A6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25B-B326-4EF8-BAD4-C6C9000D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6F5D-3440-4788-AFCD-61A40EF0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3993-CD58-45EA-A02A-A5D0A192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ABC1-AF40-49C4-A534-B57E6E0D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BFCB-47C9-4E51-8969-4492F3A8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724E-3DC9-49E5-A17A-61971064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21920-680D-4757-A4FA-FFADAD52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67AD-E33F-4196-BE20-79C41C8E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2A5A-5748-4EE5-9AAB-702F20ED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46378-E87B-4CB3-95B6-783A8388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BB351-8848-4E8D-AF8E-153A485F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5A5-D728-466D-B4D0-AC24AF25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121F2-F4F7-4451-B3CB-EAF62C20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661F4-5136-4E53-B746-D4189FCC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10CE-9AB2-4993-B3AF-95329AEC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F8E26-88E5-4201-8621-E639D359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0A078-16DF-4090-9AA4-207E818F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F21B-6B09-4A05-93DD-222B3E36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038CD-338F-43F8-8639-12996369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4C2EC-6C9E-40FB-AEB0-D3FBA173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A7975-498D-401A-A90F-BB99BD73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A1538-487D-4237-A9EE-2D0C516D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36AA-DE84-4D38-AF0A-0180D45B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2BFB9-3BC1-4E82-952A-30E7D2F5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1226D-9D71-46C0-A117-821BDEB7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187AD-DA89-4D38-B8B9-85151B4B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7990A-C089-44DB-9BE4-92EF26E7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37487-BB29-4D89-BF48-BE50F5D9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F50F-E233-4B66-8FD4-3A411753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5DA78-AE49-4276-8032-6B6621FF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A9FFD-B92A-457C-9BCF-CE8200EE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88C00-C22E-4994-AD2A-EF825EE5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41A-C51F-4A85-9E8D-75C2165F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9D4-0AB9-4A23-94FB-8692D738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018-335F-4A8D-818A-460C1173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846-12FC-4600-AF80-77658413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A93-3AA4-416F-997B-8341CE79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0" spc="-1" strike="noStrike">
                <a:solidFill>
                  <a:srgbClr val="50b4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EF2AE-C041-4E98-93EF-A21265564144}" type="slidenum">
              <a:rPr b="0" lang="en-US" sz="9000" spc="-1" strike="noStrike">
                <a:solidFill>
                  <a:srgbClr val="50b4c8"/>
                </a:solidFill>
                <a:latin typeface="Times New Roman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74068-670D-4EC9-8418-9DEA1BA5B3EB}" type="slidenum">
              <a:rPr b="0" lang="en-US" sz="9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3A1D7-A3FC-4C4B-B379-46A3731CAEA7}" type="slidenum">
              <a:rPr b="0" lang="en-US" sz="9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14E5D-7A5D-43A0-B9A9-9847A8762728}" type="slidenum">
              <a:rPr b="0" lang="en-US" sz="9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21.png"/><Relationship Id="rId21" Type="http://schemas.openxmlformats.org/officeDocument/2006/relationships/image" Target="../media/image21.pn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21.png"/><Relationship Id="rId25" Type="http://schemas.openxmlformats.org/officeDocument/2006/relationships/image" Target="../media/image21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image" Target="../media/image17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22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8.wmf"/><Relationship Id="rId26" Type="http://schemas.openxmlformats.org/officeDocument/2006/relationships/image" Target="../media/image19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591120" y="390600"/>
            <a:ext cx="190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에피소드 과학철학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2015</a:t>
            </a: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년 </a:t>
            </a:r>
            <a:r>
              <a:rPr b="0" lang="en-US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3</a:t>
            </a: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월 </a:t>
            </a:r>
            <a:r>
              <a:rPr b="0" lang="en-US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24</a:t>
            </a: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일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정동욱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9680" y="2525400"/>
            <a:ext cx="8086680" cy="23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갈릴레오와 </a:t>
            </a:r>
            <a:br>
              <a:rPr sz="7200"/>
            </a:br>
            <a:r>
              <a:rPr b="0" lang="ko-KR" sz="7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새로운 역학의 탄생</a:t>
            </a:r>
            <a:endParaRPr b="0" lang="en-US" sz="72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2320" y="5670360"/>
            <a:ext cx="75470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7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과학의 전체론적 성격과 이론 선택</a:t>
            </a:r>
            <a:endParaRPr b="0" lang="en-US" sz="37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95600" y="542520"/>
            <a:ext cx="25369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티코 체계의 건재</a:t>
            </a:r>
            <a:endParaRPr b="0" lang="en-US" sz="2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71680" y="7621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07120" y="2511000"/>
            <a:ext cx="254952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500" spc="-1" strike="noStrike">
              <a:solidFill>
                <a:srgbClr val="404040"/>
              </a:solidFill>
              <a:latin typeface="Calibri Light"/>
              <a:ea typeface="맑은 고딕"/>
            </a:endParaRPr>
          </a:p>
        </p:txBody>
      </p:sp>
      <p:pic>
        <p:nvPicPr>
          <p:cNvPr id="216" name="Picture 5" descr="Scan0044"/>
          <p:cNvPicPr/>
          <p:nvPr/>
        </p:nvPicPr>
        <p:blipFill>
          <a:blip r:embed="rId1"/>
          <a:srcRect l="0" t="3571" r="2532" b="5952"/>
          <a:stretch/>
        </p:blipFill>
        <p:spPr>
          <a:xfrm>
            <a:off x="272880" y="552600"/>
            <a:ext cx="5214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《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두 가지 주요한 우주 체계에 관한 대화</a:t>
            </a: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》 </a:t>
            </a: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(1632)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20" name="Picture 2" descr="http://image.aladin.co.kr/Community/mypaper/pimg_709771134517570.png"/>
          <p:cNvPicPr/>
          <p:nvPr/>
        </p:nvPicPr>
        <p:blipFill>
          <a:blip r:embed="rId2"/>
          <a:stretch/>
        </p:blipFill>
        <p:spPr>
          <a:xfrm>
            <a:off x="1022400" y="109440"/>
            <a:ext cx="70149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지구가 우주의 중심이며</a:t>
            </a:r>
            <a:r>
              <a:rPr b="0" lang="en-US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회전하지 않는다는 명백한 증거</a:t>
            </a:r>
            <a:r>
              <a:rPr b="0" lang="en-US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?</a:t>
            </a:r>
            <a:endParaRPr b="0" lang="en-US" sz="25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7440" y="6119640"/>
            <a:ext cx="69213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탑에서 떨어뜨린 공은 수직으로 지구중심을 향해 떨어진다</a:t>
            </a:r>
            <a:r>
              <a:rPr b="0" lang="en-US" sz="1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!</a:t>
            </a:r>
            <a:endParaRPr b="0" lang="en-US" sz="14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224" name="Picture 2" descr="http://previews.123rf.com/images/terriana/terriana1308/terriana130800040/21604229-Tower-of-Pisa-hand-drawn-vector-illustration-Leaning-Tower-of-Pisa-Pisa-Tuscany-Italy--Stock-Vector.jpg"/>
          <p:cNvPicPr/>
          <p:nvPr/>
        </p:nvPicPr>
        <p:blipFill>
          <a:blip r:embed="rId2"/>
          <a:stretch/>
        </p:blipFill>
        <p:spPr>
          <a:xfrm>
            <a:off x="1671480" y="0"/>
            <a:ext cx="5437440" cy="5295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Program Files\Microsoft Office\MEDIA\OFFICE12\Bullets\BD21294_.gif"/>
          <p:cNvPicPr/>
          <p:nvPr/>
        </p:nvPicPr>
        <p:blipFill>
          <a:blip r:embed="rId3"/>
          <a:stretch/>
        </p:blipFill>
        <p:spPr>
          <a:xfrm>
            <a:off x="4721400" y="13971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Program Files\Microsoft Office\MEDIA\OFFICE12\Bullets\BD21294_.gif"/>
          <p:cNvPicPr/>
          <p:nvPr/>
        </p:nvPicPr>
        <p:blipFill>
          <a:blip r:embed="rId4"/>
          <a:stretch/>
        </p:blipFill>
        <p:spPr>
          <a:xfrm>
            <a:off x="4721400" y="150480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Program Files\Microsoft Office\MEDIA\OFFICE12\Bullets\BD21294_.gif"/>
          <p:cNvPicPr/>
          <p:nvPr/>
        </p:nvPicPr>
        <p:blipFill>
          <a:blip r:embed="rId5"/>
          <a:stretch/>
        </p:blipFill>
        <p:spPr>
          <a:xfrm>
            <a:off x="4721400" y="182880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Program Files\Microsoft Office\MEDIA\OFFICE12\Bullets\BD21294_.gif"/>
          <p:cNvPicPr/>
          <p:nvPr/>
        </p:nvPicPr>
        <p:blipFill>
          <a:blip r:embed="rId6"/>
          <a:stretch/>
        </p:blipFill>
        <p:spPr>
          <a:xfrm>
            <a:off x="4721400" y="236844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Program Files\Microsoft Office\MEDIA\OFFICE12\Bullets\BD21294_.gif"/>
          <p:cNvPicPr/>
          <p:nvPr/>
        </p:nvPicPr>
        <p:blipFill>
          <a:blip r:embed="rId7"/>
          <a:stretch/>
        </p:blipFill>
        <p:spPr>
          <a:xfrm>
            <a:off x="4721400" y="3125880"/>
            <a:ext cx="28872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Program Files\Microsoft Office\MEDIA\OFFICE12\Bullets\BD21294_.gif"/>
          <p:cNvPicPr/>
          <p:nvPr/>
        </p:nvPicPr>
        <p:blipFill>
          <a:blip r:embed="rId8"/>
          <a:stretch/>
        </p:blipFill>
        <p:spPr>
          <a:xfrm>
            <a:off x="4721400" y="4097160"/>
            <a:ext cx="28872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12600" y="1866960"/>
            <a:ext cx="5815080" cy="14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No!</a:t>
            </a:r>
            <a:endParaRPr b="0" lang="en-US" sz="8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712600" y="3324240"/>
            <a:ext cx="581508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탑 꼭대기에서 떨어뜨린 공이 바로 밑으로 떨어진다 하더라도 그걸 갖고 지구가 가만히 있는지 아니면 움직이는지 추론할 수는 없네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grpSp>
        <p:nvGrpSpPr>
          <p:cNvPr id="233" name="그룹 41"/>
          <p:cNvGrpSpPr/>
          <p:nvPr/>
        </p:nvGrpSpPr>
        <p:grpSpPr>
          <a:xfrm>
            <a:off x="557280" y="1866960"/>
            <a:ext cx="1942920" cy="3338280"/>
            <a:chOff x="557280" y="1866960"/>
            <a:chExt cx="1942920" cy="3338280"/>
          </a:xfrm>
        </p:grpSpPr>
        <p:pic>
          <p:nvPicPr>
            <p:cNvPr id="234" name="Picture 7" descr="C:\Documents and Settings\Administrator\Local Settings\Temporary Internet Files\Content.IE5\IDR1O1MZ\MC900354335[1].wmf"/>
            <p:cNvPicPr/>
            <p:nvPr/>
          </p:nvPicPr>
          <p:blipFill>
            <a:blip r:embed="rId1"/>
            <a:stretch/>
          </p:blipFill>
          <p:spPr>
            <a:xfrm>
              <a:off x="557280" y="1866960"/>
              <a:ext cx="1942920" cy="33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8" descr="C:\Documents and Settings\Administrator\Local Settings\Temporary Internet Files\Content.IE5\W1QRJ7S6\MC900353601[1].wmf"/>
            <p:cNvPicPr/>
            <p:nvPr/>
          </p:nvPicPr>
          <p:blipFill>
            <a:blip r:embed="rId2"/>
            <a:stretch/>
          </p:blipFill>
          <p:spPr>
            <a:xfrm>
              <a:off x="916920" y="1866960"/>
              <a:ext cx="1247400" cy="138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그룹 41"/>
          <p:cNvGrpSpPr/>
          <p:nvPr/>
        </p:nvGrpSpPr>
        <p:grpSpPr>
          <a:xfrm>
            <a:off x="468360" y="333360"/>
            <a:ext cx="1942920" cy="3338640"/>
            <a:chOff x="468360" y="333360"/>
            <a:chExt cx="1942920" cy="3338640"/>
          </a:xfrm>
        </p:grpSpPr>
        <p:pic>
          <p:nvPicPr>
            <p:cNvPr id="237" name="Picture 7" descr="C:\Documents and Settings\Administrator\Local Settings\Temporary Internet Files\Content.IE5\IDR1O1MZ\MC900354335[1].wmf"/>
            <p:cNvPicPr/>
            <p:nvPr/>
          </p:nvPicPr>
          <p:blipFill>
            <a:blip r:embed="rId1"/>
            <a:stretch/>
          </p:blipFill>
          <p:spPr>
            <a:xfrm>
              <a:off x="468360" y="333360"/>
              <a:ext cx="1942920" cy="33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8" descr="C:\Documents and Settings\Administrator\Local Settings\Temporary Internet Files\Content.IE5\W1QRJ7S6\MC900353601[1].wmf"/>
            <p:cNvPicPr/>
            <p:nvPr/>
          </p:nvPicPr>
          <p:blipFill>
            <a:blip r:embed="rId2"/>
            <a:stretch/>
          </p:blipFill>
          <p:spPr>
            <a:xfrm>
              <a:off x="828000" y="333360"/>
              <a:ext cx="1247400" cy="138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9" name="그림 4" descr="피사의사탑.png"/>
          <p:cNvPicPr/>
          <p:nvPr/>
        </p:nvPicPr>
        <p:blipFill>
          <a:blip r:embed="rId3"/>
          <a:stretch/>
        </p:blipFill>
        <p:spPr>
          <a:xfrm>
            <a:off x="0" y="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240" name="그림 6" descr="피사의사탑.png"/>
          <p:cNvPicPr/>
          <p:nvPr/>
        </p:nvPicPr>
        <p:blipFill>
          <a:blip r:embed="rId4"/>
          <a:stretch/>
        </p:blipFill>
        <p:spPr>
          <a:xfrm>
            <a:off x="1440000" y="0"/>
            <a:ext cx="1854000" cy="3594240"/>
          </a:xfrm>
          <a:prstGeom prst="rect">
            <a:avLst/>
          </a:prstGeom>
          <a:ln w="0">
            <a:noFill/>
          </a:ln>
        </p:spPr>
      </p:pic>
      <p:pic>
        <p:nvPicPr>
          <p:cNvPr id="241" name="그림 7" descr="피사의사탑.png"/>
          <p:cNvPicPr/>
          <p:nvPr/>
        </p:nvPicPr>
        <p:blipFill>
          <a:blip r:embed="rId5"/>
          <a:stretch/>
        </p:blipFill>
        <p:spPr>
          <a:xfrm>
            <a:off x="4319640" y="0"/>
            <a:ext cx="1854000" cy="3594240"/>
          </a:xfrm>
          <a:prstGeom prst="rect">
            <a:avLst/>
          </a:prstGeom>
          <a:ln w="0">
            <a:noFill/>
          </a:ln>
        </p:spPr>
      </p:pic>
      <p:pic>
        <p:nvPicPr>
          <p:cNvPr id="242" name="그림 8" descr="피사의사탑.png"/>
          <p:cNvPicPr/>
          <p:nvPr/>
        </p:nvPicPr>
        <p:blipFill>
          <a:blip r:embed="rId6"/>
          <a:stretch/>
        </p:blipFill>
        <p:spPr>
          <a:xfrm>
            <a:off x="7199280" y="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243" name="그림 9" descr="피사의사탑.png"/>
          <p:cNvPicPr/>
          <p:nvPr/>
        </p:nvPicPr>
        <p:blipFill>
          <a:blip r:embed="rId7"/>
          <a:stretch/>
        </p:blipFill>
        <p:spPr>
          <a:xfrm>
            <a:off x="2879640" y="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244" name="그림 10" descr="피사의사탑.png"/>
          <p:cNvPicPr/>
          <p:nvPr/>
        </p:nvPicPr>
        <p:blipFill>
          <a:blip r:embed="rId8"/>
          <a:stretch/>
        </p:blipFill>
        <p:spPr>
          <a:xfrm>
            <a:off x="5759280" y="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C:\Program Files\Microsoft Office\MEDIA\OFFICE12\Bullets\BD21294_.gif"/>
          <p:cNvPicPr/>
          <p:nvPr/>
        </p:nvPicPr>
        <p:blipFill>
          <a:blip r:embed="rId9"/>
          <a:stretch/>
        </p:blipFill>
        <p:spPr>
          <a:xfrm>
            <a:off x="1403280" y="5126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Program Files\Microsoft Office\MEDIA\OFFICE12\Bullets\BD21294_.gif"/>
          <p:cNvPicPr/>
          <p:nvPr/>
        </p:nvPicPr>
        <p:blipFill>
          <a:blip r:embed="rId10"/>
          <a:stretch/>
        </p:blipFill>
        <p:spPr>
          <a:xfrm>
            <a:off x="1403280" y="6206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Program Files\Microsoft Office\MEDIA\OFFICE12\Bullets\BD21294_.gif"/>
          <p:cNvPicPr/>
          <p:nvPr/>
        </p:nvPicPr>
        <p:blipFill>
          <a:blip r:embed="rId11"/>
          <a:stretch/>
        </p:blipFill>
        <p:spPr>
          <a:xfrm>
            <a:off x="1403280" y="94464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C:\Program Files\Microsoft Office\MEDIA\OFFICE12\Bullets\BD21294_.gif"/>
          <p:cNvPicPr/>
          <p:nvPr/>
        </p:nvPicPr>
        <p:blipFill>
          <a:blip r:embed="rId12"/>
          <a:stretch/>
        </p:blipFill>
        <p:spPr>
          <a:xfrm>
            <a:off x="1403280" y="14842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C:\Program Files\Microsoft Office\MEDIA\OFFICE12\Bullets\BD21294_.gif"/>
          <p:cNvPicPr/>
          <p:nvPr/>
        </p:nvPicPr>
        <p:blipFill>
          <a:blip r:embed="rId13"/>
          <a:stretch/>
        </p:blipFill>
        <p:spPr>
          <a:xfrm>
            <a:off x="1403280" y="224172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Program Files\Microsoft Office\MEDIA\OFFICE12\Bullets\BD21294_.gif"/>
          <p:cNvPicPr/>
          <p:nvPr/>
        </p:nvPicPr>
        <p:blipFill>
          <a:blip r:embed="rId14"/>
          <a:stretch/>
        </p:blipFill>
        <p:spPr>
          <a:xfrm>
            <a:off x="1403280" y="321300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Program Files\Microsoft Office\MEDIA\OFFICE12\Bullets\BD21294_.gif"/>
          <p:cNvPicPr/>
          <p:nvPr/>
        </p:nvPicPr>
        <p:blipFill>
          <a:blip r:embed="rId15"/>
          <a:stretch/>
        </p:blipFill>
        <p:spPr>
          <a:xfrm>
            <a:off x="2843280" y="62244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Program Files\Microsoft Office\MEDIA\OFFICE12\Bullets\BD21294_.gif"/>
          <p:cNvPicPr/>
          <p:nvPr/>
        </p:nvPicPr>
        <p:blipFill>
          <a:blip r:embed="rId16"/>
          <a:stretch/>
        </p:blipFill>
        <p:spPr>
          <a:xfrm>
            <a:off x="8604360" y="321480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Program Files\Microsoft Office\MEDIA\OFFICE12\Bullets\BD21294_.gif"/>
          <p:cNvPicPr/>
          <p:nvPr/>
        </p:nvPicPr>
        <p:blipFill>
          <a:blip r:embed="rId17"/>
          <a:stretch/>
        </p:blipFill>
        <p:spPr>
          <a:xfrm>
            <a:off x="7164360" y="22431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Program Files\Microsoft Office\MEDIA\OFFICE12\Bullets\BD21294_.gif"/>
          <p:cNvPicPr/>
          <p:nvPr/>
        </p:nvPicPr>
        <p:blipFill>
          <a:blip r:embed="rId18"/>
          <a:stretch/>
        </p:blipFill>
        <p:spPr>
          <a:xfrm>
            <a:off x="5724360" y="148752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C:\Program Files\Microsoft Office\MEDIA\OFFICE12\Bullets\BD21294_.gif"/>
          <p:cNvPicPr/>
          <p:nvPr/>
        </p:nvPicPr>
        <p:blipFill>
          <a:blip r:embed="rId19"/>
          <a:stretch/>
        </p:blipFill>
        <p:spPr>
          <a:xfrm>
            <a:off x="4284720" y="94608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256" name="그림 24" descr="피사의사탑.png"/>
          <p:cNvPicPr/>
          <p:nvPr/>
        </p:nvPicPr>
        <p:blipFill>
          <a:blip r:embed="rId20"/>
          <a:stretch/>
        </p:blipFill>
        <p:spPr>
          <a:xfrm>
            <a:off x="0" y="326376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257" name="그림 25" descr="피사의사탑.png"/>
          <p:cNvPicPr/>
          <p:nvPr/>
        </p:nvPicPr>
        <p:blipFill>
          <a:blip r:embed="rId21"/>
          <a:stretch/>
        </p:blipFill>
        <p:spPr>
          <a:xfrm>
            <a:off x="1440000" y="3263760"/>
            <a:ext cx="1854000" cy="3594240"/>
          </a:xfrm>
          <a:prstGeom prst="rect">
            <a:avLst/>
          </a:prstGeom>
          <a:ln w="0">
            <a:noFill/>
          </a:ln>
        </p:spPr>
      </p:pic>
      <p:pic>
        <p:nvPicPr>
          <p:cNvPr id="258" name="그림 26" descr="피사의사탑.png"/>
          <p:cNvPicPr/>
          <p:nvPr/>
        </p:nvPicPr>
        <p:blipFill>
          <a:blip r:embed="rId22"/>
          <a:stretch/>
        </p:blipFill>
        <p:spPr>
          <a:xfrm>
            <a:off x="4319640" y="3263760"/>
            <a:ext cx="1854000" cy="3594240"/>
          </a:xfrm>
          <a:prstGeom prst="rect">
            <a:avLst/>
          </a:prstGeom>
          <a:ln w="0">
            <a:noFill/>
          </a:ln>
        </p:spPr>
      </p:pic>
      <p:pic>
        <p:nvPicPr>
          <p:cNvPr id="259" name="그림 27" descr="피사의사탑.png"/>
          <p:cNvPicPr/>
          <p:nvPr/>
        </p:nvPicPr>
        <p:blipFill>
          <a:blip r:embed="rId23"/>
          <a:stretch/>
        </p:blipFill>
        <p:spPr>
          <a:xfrm>
            <a:off x="7199280" y="326376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260" name="그림 28" descr="피사의사탑.png"/>
          <p:cNvPicPr/>
          <p:nvPr/>
        </p:nvPicPr>
        <p:blipFill>
          <a:blip r:embed="rId24"/>
          <a:stretch/>
        </p:blipFill>
        <p:spPr>
          <a:xfrm>
            <a:off x="2879640" y="326376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261" name="그림 29" descr="피사의사탑.png"/>
          <p:cNvPicPr/>
          <p:nvPr/>
        </p:nvPicPr>
        <p:blipFill>
          <a:blip r:embed="rId25"/>
          <a:stretch/>
        </p:blipFill>
        <p:spPr>
          <a:xfrm>
            <a:off x="5759280" y="326376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Program Files\Microsoft Office\MEDIA\OFFICE12\Bullets\BD21294_.gif"/>
          <p:cNvPicPr/>
          <p:nvPr/>
        </p:nvPicPr>
        <p:blipFill>
          <a:blip r:embed="rId26"/>
          <a:stretch/>
        </p:blipFill>
        <p:spPr>
          <a:xfrm>
            <a:off x="1403280" y="377676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C:\Program Files\Microsoft Office\MEDIA\OFFICE12\Bullets\BD21294_.gif"/>
          <p:cNvPicPr/>
          <p:nvPr/>
        </p:nvPicPr>
        <p:blipFill>
          <a:blip r:embed="rId27"/>
          <a:stretch/>
        </p:blipFill>
        <p:spPr>
          <a:xfrm>
            <a:off x="1403280" y="388476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C:\Program Files\Microsoft Office\MEDIA\OFFICE12\Bullets\BD21294_.gif"/>
          <p:cNvPicPr/>
          <p:nvPr/>
        </p:nvPicPr>
        <p:blipFill>
          <a:blip r:embed="rId28"/>
          <a:stretch/>
        </p:blipFill>
        <p:spPr>
          <a:xfrm>
            <a:off x="1403280" y="421020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C:\Program Files\Microsoft Office\MEDIA\OFFICE12\Bullets\BD21294_.gif"/>
          <p:cNvPicPr/>
          <p:nvPr/>
        </p:nvPicPr>
        <p:blipFill>
          <a:blip r:embed="rId29"/>
          <a:stretch/>
        </p:blipFill>
        <p:spPr>
          <a:xfrm>
            <a:off x="1403280" y="474984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C:\Program Files\Microsoft Office\MEDIA\OFFICE12\Bullets\BD21294_.gif"/>
          <p:cNvPicPr/>
          <p:nvPr/>
        </p:nvPicPr>
        <p:blipFill>
          <a:blip r:embed="rId30"/>
          <a:stretch/>
        </p:blipFill>
        <p:spPr>
          <a:xfrm>
            <a:off x="1403280" y="550548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C:\Program Files\Microsoft Office\MEDIA\OFFICE12\Bullets\BD21294_.gif"/>
          <p:cNvPicPr/>
          <p:nvPr/>
        </p:nvPicPr>
        <p:blipFill>
          <a:blip r:embed="rId31"/>
          <a:stretch/>
        </p:blipFill>
        <p:spPr>
          <a:xfrm>
            <a:off x="1403280" y="647712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C:\Program Files\Microsoft Office\MEDIA\OFFICE12\Bullets\BD21294_.gif"/>
          <p:cNvPicPr/>
          <p:nvPr/>
        </p:nvPicPr>
        <p:blipFill>
          <a:blip r:embed="rId32"/>
          <a:stretch/>
        </p:blipFill>
        <p:spPr>
          <a:xfrm>
            <a:off x="2843280" y="3887640"/>
            <a:ext cx="288720" cy="287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Program Files\Microsoft Office\MEDIA\OFFICE12\Bullets\BD21294_.gif"/>
          <p:cNvPicPr/>
          <p:nvPr/>
        </p:nvPicPr>
        <p:blipFill>
          <a:blip r:embed="rId33"/>
          <a:stretch/>
        </p:blipFill>
        <p:spPr>
          <a:xfrm>
            <a:off x="8604360" y="64785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C:\Program Files\Microsoft Office\MEDIA\OFFICE12\Bullets\BD21294_.gif"/>
          <p:cNvPicPr/>
          <p:nvPr/>
        </p:nvPicPr>
        <p:blipFill>
          <a:blip r:embed="rId34"/>
          <a:stretch/>
        </p:blipFill>
        <p:spPr>
          <a:xfrm>
            <a:off x="7164360" y="550692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C:\Program Files\Microsoft Office\MEDIA\OFFICE12\Bullets\BD21294_.gif"/>
          <p:cNvPicPr/>
          <p:nvPr/>
        </p:nvPicPr>
        <p:blipFill>
          <a:blip r:embed="rId35"/>
          <a:stretch/>
        </p:blipFill>
        <p:spPr>
          <a:xfrm>
            <a:off x="5724360" y="475128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C:\Program Files\Microsoft Office\MEDIA\OFFICE12\Bullets\BD21294_.gif"/>
          <p:cNvPicPr/>
          <p:nvPr/>
        </p:nvPicPr>
        <p:blipFill>
          <a:blip r:embed="rId36"/>
          <a:stretch/>
        </p:blipFill>
        <p:spPr>
          <a:xfrm>
            <a:off x="4284720" y="421164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그러나 탑이 움직인다면</a:t>
            </a: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공은 뒤처질 것이다</a:t>
            </a: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!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7960" y="6032160"/>
            <a:ext cx="806472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정지한 배에서 떨어뜨린 공은 제자리에 떨어지지만</a:t>
            </a:r>
            <a:r>
              <a:rPr b="0" lang="en-US" sz="1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움직이는 배에서 떨어뜨린 공은 뒤처지지 않는가</a:t>
            </a:r>
            <a:r>
              <a:rPr b="0" lang="en-US" sz="1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?</a:t>
            </a:r>
            <a:endParaRPr b="0" lang="en-US" sz="14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276" name="Picture 2" descr="http://previews.123rf.com/images/terriana/terriana1308/terriana130800040/21604229-Tower-of-Pisa-hand-drawn-vector-illustration-Leaning-Tower-of-Pisa-Pisa-Tuscany-Italy--Stock-Vector.jpg"/>
          <p:cNvPicPr/>
          <p:nvPr/>
        </p:nvPicPr>
        <p:blipFill>
          <a:blip r:embed="rId2"/>
          <a:stretch/>
        </p:blipFill>
        <p:spPr>
          <a:xfrm>
            <a:off x="1657440" y="0"/>
            <a:ext cx="5437080" cy="5295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C:\Program Files\Microsoft Office\MEDIA\OFFICE12\Bullets\BD21294_.gif"/>
          <p:cNvPicPr/>
          <p:nvPr/>
        </p:nvPicPr>
        <p:blipFill>
          <a:blip r:embed="rId3"/>
          <a:stretch/>
        </p:blipFill>
        <p:spPr>
          <a:xfrm>
            <a:off x="4692600" y="142416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Program Files\Microsoft Office\MEDIA\OFFICE12\Bullets\BD21294_.gif"/>
          <p:cNvPicPr/>
          <p:nvPr/>
        </p:nvPicPr>
        <p:blipFill>
          <a:blip r:embed="rId4"/>
          <a:stretch/>
        </p:blipFill>
        <p:spPr>
          <a:xfrm>
            <a:off x="3970440" y="150480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Program Files\Microsoft Office\MEDIA\OFFICE12\Bullets\BD21294_.gif"/>
          <p:cNvPicPr/>
          <p:nvPr/>
        </p:nvPicPr>
        <p:blipFill>
          <a:blip r:embed="rId5"/>
          <a:stretch/>
        </p:blipFill>
        <p:spPr>
          <a:xfrm>
            <a:off x="3251160" y="182880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C:\Program Files\Microsoft Office\MEDIA\OFFICE12\Bullets\BD21294_.gif"/>
          <p:cNvPicPr/>
          <p:nvPr/>
        </p:nvPicPr>
        <p:blipFill>
          <a:blip r:embed="rId6"/>
          <a:stretch/>
        </p:blipFill>
        <p:spPr>
          <a:xfrm>
            <a:off x="2530440" y="23684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C:\Program Files\Microsoft Office\MEDIA\OFFICE12\Bullets\BD21294_.gif"/>
          <p:cNvPicPr/>
          <p:nvPr/>
        </p:nvPicPr>
        <p:blipFill>
          <a:blip r:embed="rId7"/>
          <a:stretch/>
        </p:blipFill>
        <p:spPr>
          <a:xfrm>
            <a:off x="1811160" y="312588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Program Files\Microsoft Office\MEDIA\OFFICE12\Bullets\BD21294_.gif"/>
          <p:cNvPicPr/>
          <p:nvPr/>
        </p:nvPicPr>
        <p:blipFill>
          <a:blip r:embed="rId8"/>
          <a:stretch/>
        </p:blipFill>
        <p:spPr>
          <a:xfrm>
            <a:off x="1090440" y="4097160"/>
            <a:ext cx="2890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684520" y="2227320"/>
            <a:ext cx="5843520" cy="13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No!</a:t>
            </a:r>
            <a:endParaRPr b="0" lang="en-US" sz="8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84520" y="3719520"/>
            <a:ext cx="58435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돌은 늘 갑판의 같은 지점에 떨어져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배가 가만히 있든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또는 어떠한 속력으로 움직이든 늘 마찬가지야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. 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grpSp>
        <p:nvGrpSpPr>
          <p:cNvPr id="285" name="그룹 41"/>
          <p:cNvGrpSpPr/>
          <p:nvPr/>
        </p:nvGrpSpPr>
        <p:grpSpPr>
          <a:xfrm>
            <a:off x="557280" y="1866960"/>
            <a:ext cx="1942920" cy="3338280"/>
            <a:chOff x="557280" y="1866960"/>
            <a:chExt cx="1942920" cy="3338280"/>
          </a:xfrm>
        </p:grpSpPr>
        <p:pic>
          <p:nvPicPr>
            <p:cNvPr id="286" name="Picture 7" descr="C:\Documents and Settings\Administrator\Local Settings\Temporary Internet Files\Content.IE5\IDR1O1MZ\MC900354335[1].wmf"/>
            <p:cNvPicPr/>
            <p:nvPr/>
          </p:nvPicPr>
          <p:blipFill>
            <a:blip r:embed="rId1"/>
            <a:stretch/>
          </p:blipFill>
          <p:spPr>
            <a:xfrm>
              <a:off x="557280" y="1866960"/>
              <a:ext cx="1942920" cy="33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8" descr="C:\Documents and Settings\Administrator\Local Settings\Temporary Internet Files\Content.IE5\W1QRJ7S6\MC900353601[1].wmf"/>
            <p:cNvPicPr/>
            <p:nvPr/>
          </p:nvPicPr>
          <p:blipFill>
            <a:blip r:embed="rId2"/>
            <a:stretch/>
          </p:blipFill>
          <p:spPr>
            <a:xfrm>
              <a:off x="916920" y="1866960"/>
              <a:ext cx="1247400" cy="138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그림 53" descr="돛단배.png"/>
          <p:cNvPicPr/>
          <p:nvPr/>
        </p:nvPicPr>
        <p:blipFill>
          <a:blip r:embed="rId1"/>
          <a:stretch/>
        </p:blipFill>
        <p:spPr>
          <a:xfrm>
            <a:off x="7259760" y="331920"/>
            <a:ext cx="2519280" cy="2950920"/>
          </a:xfrm>
          <a:prstGeom prst="rect">
            <a:avLst/>
          </a:prstGeom>
          <a:ln w="0">
            <a:noFill/>
          </a:ln>
        </p:spPr>
      </p:pic>
      <p:pic>
        <p:nvPicPr>
          <p:cNvPr id="289" name="그림 54" descr="돛단배.png"/>
          <p:cNvPicPr/>
          <p:nvPr/>
        </p:nvPicPr>
        <p:blipFill>
          <a:blip r:embed="rId2"/>
          <a:stretch/>
        </p:blipFill>
        <p:spPr>
          <a:xfrm>
            <a:off x="5459400" y="331920"/>
            <a:ext cx="2519280" cy="2950920"/>
          </a:xfrm>
          <a:prstGeom prst="rect">
            <a:avLst/>
          </a:prstGeom>
          <a:ln w="0">
            <a:noFill/>
          </a:ln>
        </p:spPr>
      </p:pic>
      <p:pic>
        <p:nvPicPr>
          <p:cNvPr id="290" name="그림 52" descr="돛단배.png"/>
          <p:cNvPicPr/>
          <p:nvPr/>
        </p:nvPicPr>
        <p:blipFill>
          <a:blip r:embed="rId3"/>
          <a:stretch/>
        </p:blipFill>
        <p:spPr>
          <a:xfrm>
            <a:off x="3660840" y="331920"/>
            <a:ext cx="2517840" cy="2950920"/>
          </a:xfrm>
          <a:prstGeom prst="rect">
            <a:avLst/>
          </a:prstGeom>
          <a:ln w="0">
            <a:noFill/>
          </a:ln>
        </p:spPr>
      </p:pic>
      <p:pic>
        <p:nvPicPr>
          <p:cNvPr id="291" name="그림 51" descr="돛단배.png"/>
          <p:cNvPicPr/>
          <p:nvPr/>
        </p:nvPicPr>
        <p:blipFill>
          <a:blip r:embed="rId4"/>
          <a:stretch/>
        </p:blipFill>
        <p:spPr>
          <a:xfrm>
            <a:off x="1860480" y="331920"/>
            <a:ext cx="2517840" cy="2950920"/>
          </a:xfrm>
          <a:prstGeom prst="rect">
            <a:avLst/>
          </a:prstGeom>
          <a:ln w="0">
            <a:noFill/>
          </a:ln>
        </p:spPr>
      </p:pic>
      <p:pic>
        <p:nvPicPr>
          <p:cNvPr id="292" name="그림 40" descr="돛단배.png"/>
          <p:cNvPicPr/>
          <p:nvPr/>
        </p:nvPicPr>
        <p:blipFill>
          <a:blip r:embed="rId5"/>
          <a:stretch/>
        </p:blipFill>
        <p:spPr>
          <a:xfrm>
            <a:off x="0" y="3903840"/>
            <a:ext cx="2638440" cy="2952720"/>
          </a:xfrm>
          <a:prstGeom prst="rect">
            <a:avLst/>
          </a:prstGeom>
          <a:ln w="0">
            <a:noFill/>
          </a:ln>
        </p:spPr>
      </p:pic>
      <p:pic>
        <p:nvPicPr>
          <p:cNvPr id="293" name="그림 41" descr="돛단배.png"/>
          <p:cNvPicPr/>
          <p:nvPr/>
        </p:nvPicPr>
        <p:blipFill>
          <a:blip r:embed="rId6"/>
          <a:stretch/>
        </p:blipFill>
        <p:spPr>
          <a:xfrm>
            <a:off x="7199280" y="3905280"/>
            <a:ext cx="2639880" cy="2952720"/>
          </a:xfrm>
          <a:prstGeom prst="rect">
            <a:avLst/>
          </a:prstGeom>
          <a:ln w="0">
            <a:noFill/>
          </a:ln>
        </p:spPr>
      </p:pic>
      <p:pic>
        <p:nvPicPr>
          <p:cNvPr id="294" name="그림 42" descr="돛단배.png"/>
          <p:cNvPicPr/>
          <p:nvPr/>
        </p:nvPicPr>
        <p:blipFill>
          <a:blip r:embed="rId7"/>
          <a:stretch/>
        </p:blipFill>
        <p:spPr>
          <a:xfrm>
            <a:off x="5400720" y="3905280"/>
            <a:ext cx="2638440" cy="2952720"/>
          </a:xfrm>
          <a:prstGeom prst="rect">
            <a:avLst/>
          </a:prstGeom>
          <a:ln w="0">
            <a:noFill/>
          </a:ln>
        </p:spPr>
      </p:pic>
      <p:pic>
        <p:nvPicPr>
          <p:cNvPr id="295" name="그림 43" descr="돛단배.png"/>
          <p:cNvPicPr/>
          <p:nvPr/>
        </p:nvPicPr>
        <p:blipFill>
          <a:blip r:embed="rId8"/>
          <a:stretch/>
        </p:blipFill>
        <p:spPr>
          <a:xfrm>
            <a:off x="3600360" y="3905280"/>
            <a:ext cx="2638440" cy="2952720"/>
          </a:xfrm>
          <a:prstGeom prst="rect">
            <a:avLst/>
          </a:prstGeom>
          <a:ln w="0">
            <a:noFill/>
          </a:ln>
        </p:spPr>
      </p:pic>
      <p:pic>
        <p:nvPicPr>
          <p:cNvPr id="296" name="그림 44" descr="돛단배.png"/>
          <p:cNvPicPr/>
          <p:nvPr/>
        </p:nvPicPr>
        <p:blipFill>
          <a:blip r:embed="rId9"/>
          <a:stretch/>
        </p:blipFill>
        <p:spPr>
          <a:xfrm>
            <a:off x="1800360" y="3905280"/>
            <a:ext cx="2638440" cy="2952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C:\Program Files\Microsoft Office\MEDIA\OFFICE12\Bullets\BD21294_.gif"/>
          <p:cNvPicPr/>
          <p:nvPr/>
        </p:nvPicPr>
        <p:blipFill>
          <a:blip r:embed="rId10"/>
          <a:stretch/>
        </p:blipFill>
        <p:spPr>
          <a:xfrm>
            <a:off x="1116000" y="389412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C:\Program Files\Microsoft Office\MEDIA\OFFICE12\Bullets\BD21294_.gif"/>
          <p:cNvPicPr/>
          <p:nvPr/>
        </p:nvPicPr>
        <p:blipFill>
          <a:blip r:embed="rId11"/>
          <a:stretch/>
        </p:blipFill>
        <p:spPr>
          <a:xfrm>
            <a:off x="8315280" y="562284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C:\Program Files\Microsoft Office\MEDIA\OFFICE12\Bullets\BD21294_.gif"/>
          <p:cNvPicPr/>
          <p:nvPr/>
        </p:nvPicPr>
        <p:blipFill>
          <a:blip r:embed="rId12"/>
          <a:stretch/>
        </p:blipFill>
        <p:spPr>
          <a:xfrm>
            <a:off x="1116000" y="400212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C:\Program Files\Microsoft Office\MEDIA\OFFICE12\Bullets\BD21294_.gif"/>
          <p:cNvPicPr/>
          <p:nvPr/>
        </p:nvPicPr>
        <p:blipFill>
          <a:blip r:embed="rId13"/>
          <a:stretch/>
        </p:blipFill>
        <p:spPr>
          <a:xfrm>
            <a:off x="4716360" y="43275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C:\Program Files\Microsoft Office\MEDIA\OFFICE12\Bullets\BD21294_.gif"/>
          <p:cNvPicPr/>
          <p:nvPr/>
        </p:nvPicPr>
        <p:blipFill>
          <a:blip r:embed="rId14"/>
          <a:stretch/>
        </p:blipFill>
        <p:spPr>
          <a:xfrm>
            <a:off x="2916360" y="400212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C:\Program Files\Microsoft Office\MEDIA\OFFICE12\Bullets\BD21294_.gif"/>
          <p:cNvPicPr/>
          <p:nvPr/>
        </p:nvPicPr>
        <p:blipFill>
          <a:blip r:embed="rId15"/>
          <a:stretch/>
        </p:blipFill>
        <p:spPr>
          <a:xfrm>
            <a:off x="1116000" y="5622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C:\Program Files\Microsoft Office\MEDIA\OFFICE12\Bullets\BD21294_.gif"/>
          <p:cNvPicPr/>
          <p:nvPr/>
        </p:nvPicPr>
        <p:blipFill>
          <a:blip r:embed="rId16"/>
          <a:stretch/>
        </p:blipFill>
        <p:spPr>
          <a:xfrm>
            <a:off x="1116000" y="48672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C:\Program Files\Microsoft Office\MEDIA\OFFICE12\Bullets\BD21294_.gif"/>
          <p:cNvPicPr/>
          <p:nvPr/>
        </p:nvPicPr>
        <p:blipFill>
          <a:blip r:embed="rId17"/>
          <a:stretch/>
        </p:blipFill>
        <p:spPr>
          <a:xfrm>
            <a:off x="1116000" y="43275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C:\Program Files\Microsoft Office\MEDIA\OFFICE12\Bullets\BD21294_.gif"/>
          <p:cNvPicPr/>
          <p:nvPr/>
        </p:nvPicPr>
        <p:blipFill>
          <a:blip r:embed="rId18"/>
          <a:stretch/>
        </p:blipFill>
        <p:spPr>
          <a:xfrm>
            <a:off x="6516720" y="48672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06" name="그림 45" descr="돛단배.png"/>
          <p:cNvPicPr/>
          <p:nvPr/>
        </p:nvPicPr>
        <p:blipFill>
          <a:blip r:embed="rId19"/>
          <a:stretch/>
        </p:blipFill>
        <p:spPr>
          <a:xfrm>
            <a:off x="60480" y="333360"/>
            <a:ext cx="2517480" cy="2951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C:\Program Files\Microsoft Office\MEDIA\OFFICE12\Bullets\BD21294_.gif"/>
          <p:cNvPicPr/>
          <p:nvPr/>
        </p:nvPicPr>
        <p:blipFill>
          <a:blip r:embed="rId20"/>
          <a:stretch/>
        </p:blipFill>
        <p:spPr>
          <a:xfrm>
            <a:off x="1116000" y="324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C:\Program Files\Microsoft Office\MEDIA\OFFICE12\Bullets\BD21294_.gif"/>
          <p:cNvPicPr/>
          <p:nvPr/>
        </p:nvPicPr>
        <p:blipFill>
          <a:blip r:embed="rId21"/>
          <a:stretch/>
        </p:blipFill>
        <p:spPr>
          <a:xfrm>
            <a:off x="2916360" y="43164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C:\Program Files\Microsoft Office\MEDIA\OFFICE12\Bullets\BD21294_.gif"/>
          <p:cNvPicPr/>
          <p:nvPr/>
        </p:nvPicPr>
        <p:blipFill>
          <a:blip r:embed="rId22"/>
          <a:stretch/>
        </p:blipFill>
        <p:spPr>
          <a:xfrm>
            <a:off x="8315280" y="205092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C:\Program Files\Microsoft Office\MEDIA\OFFICE12\Bullets\BD21294_.gif"/>
          <p:cNvPicPr/>
          <p:nvPr/>
        </p:nvPicPr>
        <p:blipFill>
          <a:blip r:embed="rId23"/>
          <a:stretch/>
        </p:blipFill>
        <p:spPr>
          <a:xfrm>
            <a:off x="6516720" y="129528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C:\Program Files\Microsoft Office\MEDIA\OFFICE12\Bullets\BD21294_.gif"/>
          <p:cNvPicPr/>
          <p:nvPr/>
        </p:nvPicPr>
        <p:blipFill>
          <a:blip r:embed="rId24"/>
          <a:stretch/>
        </p:blipFill>
        <p:spPr>
          <a:xfrm>
            <a:off x="4716360" y="755640"/>
            <a:ext cx="287280" cy="289080"/>
          </a:xfrm>
          <a:prstGeom prst="rect">
            <a:avLst/>
          </a:prstGeom>
          <a:ln w="0">
            <a:noFill/>
          </a:ln>
        </p:spPr>
      </p:pic>
      <p:sp>
        <p:nvSpPr>
          <p:cNvPr id="312" name="자유형 57"/>
          <p:cNvSpPr/>
          <p:nvPr/>
        </p:nvSpPr>
        <p:spPr>
          <a:xfrm>
            <a:off x="1227240" y="3992400"/>
            <a:ext cx="1828800" cy="111240"/>
          </a:xfrm>
          <a:custGeom>
            <a:avLst/>
            <a:gdLst/>
            <a:ahLst/>
            <a:rect l="l" t="t" r="r" b="b"/>
            <a:pathLst>
              <a:path w="1828800" h="111512">
                <a:moveTo>
                  <a:pt x="0" y="0"/>
                </a:moveTo>
                <a:cubicBezTo>
                  <a:pt x="215590" y="1858"/>
                  <a:pt x="431181" y="3717"/>
                  <a:pt x="735981" y="22302"/>
                </a:cubicBezTo>
                <a:cubicBezTo>
                  <a:pt x="1040781" y="40887"/>
                  <a:pt x="1828800" y="111512"/>
                  <a:pt x="1828800" y="111512"/>
                </a:cubicBezTo>
                <a:lnTo>
                  <a:pt x="1828800" y="111512"/>
                </a:lnTo>
              </a:path>
            </a:pathLst>
          </a:custGeom>
          <a:noFill/>
          <a:ln w="9360">
            <a:solidFill>
              <a:srgbClr val="50b4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자유형 59"/>
          <p:cNvSpPr/>
          <p:nvPr/>
        </p:nvSpPr>
        <p:spPr>
          <a:xfrm>
            <a:off x="4840200" y="4437000"/>
            <a:ext cx="1806840" cy="536760"/>
          </a:xfrm>
          <a:custGeom>
            <a:avLst/>
            <a:gdLst/>
            <a:ahLst/>
            <a:rect l="l" t="t" r="r" b="b"/>
            <a:pathLst>
              <a:path w="1806498" h="490654">
                <a:moveTo>
                  <a:pt x="0" y="0"/>
                </a:moveTo>
                <a:cubicBezTo>
                  <a:pt x="328961" y="70624"/>
                  <a:pt x="657922" y="141249"/>
                  <a:pt x="959005" y="223025"/>
                </a:cubicBezTo>
                <a:cubicBezTo>
                  <a:pt x="1260088" y="304801"/>
                  <a:pt x="1806498" y="490654"/>
                  <a:pt x="1806498" y="490654"/>
                </a:cubicBezTo>
                <a:lnTo>
                  <a:pt x="1806498" y="490654"/>
                </a:lnTo>
              </a:path>
            </a:pathLst>
          </a:custGeom>
          <a:noFill/>
          <a:ln w="9360">
            <a:solidFill>
              <a:srgbClr val="50b4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자유형 60"/>
          <p:cNvSpPr/>
          <p:nvPr/>
        </p:nvSpPr>
        <p:spPr>
          <a:xfrm>
            <a:off x="6516720" y="4941720"/>
            <a:ext cx="1906560" cy="812880"/>
          </a:xfrm>
          <a:custGeom>
            <a:avLst/>
            <a:gdLst/>
            <a:ahLst/>
            <a:rect l="l" t="t" r="r" b="b"/>
            <a:pathLst>
              <a:path w="1776761" h="735980">
                <a:moveTo>
                  <a:pt x="0" y="0"/>
                </a:moveTo>
                <a:cubicBezTo>
                  <a:pt x="429322" y="144966"/>
                  <a:pt x="858644" y="289932"/>
                  <a:pt x="1137424" y="401444"/>
                </a:cubicBezTo>
                <a:cubicBezTo>
                  <a:pt x="1416205" y="512956"/>
                  <a:pt x="1568605" y="613317"/>
                  <a:pt x="1672683" y="669073"/>
                </a:cubicBezTo>
                <a:cubicBezTo>
                  <a:pt x="1776761" y="724829"/>
                  <a:pt x="1769327" y="730404"/>
                  <a:pt x="1761893" y="735980"/>
                </a:cubicBezTo>
              </a:path>
            </a:pathLst>
          </a:custGeom>
          <a:noFill/>
          <a:ln w="9360">
            <a:solidFill>
              <a:srgbClr val="50b4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자유형 61"/>
          <p:cNvSpPr/>
          <p:nvPr/>
        </p:nvSpPr>
        <p:spPr>
          <a:xfrm>
            <a:off x="2989440" y="4103640"/>
            <a:ext cx="1804680" cy="289080"/>
          </a:xfrm>
          <a:custGeom>
            <a:avLst/>
            <a:gdLst/>
            <a:ahLst/>
            <a:rect l="l" t="t" r="r" b="b"/>
            <a:pathLst>
              <a:path w="1806497" h="289932">
                <a:moveTo>
                  <a:pt x="0" y="0"/>
                </a:moveTo>
                <a:cubicBezTo>
                  <a:pt x="239751" y="20444"/>
                  <a:pt x="479502" y="40888"/>
                  <a:pt x="780585" y="89210"/>
                </a:cubicBezTo>
                <a:cubicBezTo>
                  <a:pt x="1081668" y="137532"/>
                  <a:pt x="1806497" y="289932"/>
                  <a:pt x="1806497" y="289932"/>
                </a:cubicBezTo>
                <a:lnTo>
                  <a:pt x="1806497" y="289932"/>
                </a:lnTo>
              </a:path>
            </a:pathLst>
          </a:custGeom>
          <a:noFill/>
          <a:ln w="9360">
            <a:solidFill>
              <a:srgbClr val="50b4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316" name="그룹 62"/>
          <p:cNvGrpSpPr/>
          <p:nvPr/>
        </p:nvGrpSpPr>
        <p:grpSpPr>
          <a:xfrm>
            <a:off x="468360" y="333360"/>
            <a:ext cx="1942920" cy="3338640"/>
            <a:chOff x="468360" y="333360"/>
            <a:chExt cx="1942920" cy="3338640"/>
          </a:xfrm>
        </p:grpSpPr>
        <p:pic>
          <p:nvPicPr>
            <p:cNvPr id="317" name="Picture 7" descr="C:\Documents and Settings\Administrator\Local Settings\Temporary Internet Files\Content.IE5\IDR1O1MZ\MC900354335[1].wmf"/>
            <p:cNvPicPr/>
            <p:nvPr/>
          </p:nvPicPr>
          <p:blipFill>
            <a:blip r:embed="rId25"/>
            <a:stretch/>
          </p:blipFill>
          <p:spPr>
            <a:xfrm>
              <a:off x="468360" y="333360"/>
              <a:ext cx="1942920" cy="33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8" descr="C:\Documents and Settings\Administrator\Local Settings\Temporary Internet Files\Content.IE5\W1QRJ7S6\MC900353601[1].wmf"/>
            <p:cNvPicPr/>
            <p:nvPr/>
          </p:nvPicPr>
          <p:blipFill>
            <a:blip r:embed="rId26"/>
            <a:stretch/>
          </p:blipFill>
          <p:spPr>
            <a:xfrm>
              <a:off x="828000" y="333360"/>
              <a:ext cx="1247400" cy="1380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정말</a:t>
            </a:r>
            <a:r>
              <a:rPr b="0" lang="en-US" sz="80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? </a:t>
            </a:r>
            <a:endParaRPr b="0" lang="en-US" sz="8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Calibri Light"/>
              <a:ea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634840" y="2060640"/>
            <a:ext cx="589284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실험할 필요도 없어</a:t>
            </a:r>
            <a:r>
              <a:rPr b="0" lang="en-US" sz="54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!</a:t>
            </a: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34840" y="3366720"/>
            <a:ext cx="589284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돌은 배와 함께 운동하면서 각인된 수평 운동을 계속하게 되고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그 수평 운동은 속도가 줄어들거나 증가할 이유가 없어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grpSp>
        <p:nvGrpSpPr>
          <p:cNvPr id="323" name="그룹 41"/>
          <p:cNvGrpSpPr/>
          <p:nvPr/>
        </p:nvGrpSpPr>
        <p:grpSpPr>
          <a:xfrm>
            <a:off x="557280" y="1866960"/>
            <a:ext cx="1942920" cy="3338280"/>
            <a:chOff x="557280" y="1866960"/>
            <a:chExt cx="1942920" cy="3338280"/>
          </a:xfrm>
        </p:grpSpPr>
        <p:pic>
          <p:nvPicPr>
            <p:cNvPr id="324" name="Picture 7" descr="C:\Documents and Settings\Administrator\Local Settings\Temporary Internet Files\Content.IE5\IDR1O1MZ\MC900354335[1].wmf"/>
            <p:cNvPicPr/>
            <p:nvPr/>
          </p:nvPicPr>
          <p:blipFill>
            <a:blip r:embed="rId1"/>
            <a:stretch/>
          </p:blipFill>
          <p:spPr>
            <a:xfrm>
              <a:off x="557280" y="1866960"/>
              <a:ext cx="1942920" cy="33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8" descr="C:\Documents and Settings\Administrator\Local Settings\Temporary Internet Files\Content.IE5\W1QRJ7S6\MC900353601[1].wmf"/>
            <p:cNvPicPr/>
            <p:nvPr/>
          </p:nvPicPr>
          <p:blipFill>
            <a:blip r:embed="rId2"/>
            <a:stretch/>
          </p:blipFill>
          <p:spPr>
            <a:xfrm>
              <a:off x="916920" y="1866960"/>
              <a:ext cx="1247400" cy="138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원을 버리고 나자 향상된 태양중심설의 정확성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180" name="Picture 4" descr="keplerlaw"/>
          <p:cNvPicPr/>
          <p:nvPr/>
        </p:nvPicPr>
        <p:blipFill>
          <a:blip r:embed="rId2"/>
          <a:srcRect l="4787" t="2268" r="12724" b="2457"/>
          <a:stretch/>
        </p:blipFill>
        <p:spPr>
          <a:xfrm>
            <a:off x="3708360" y="1073160"/>
            <a:ext cx="4861080" cy="3745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kepler"/>
          <p:cNvPicPr/>
          <p:nvPr/>
        </p:nvPicPr>
        <p:blipFill>
          <a:blip r:embed="rId3"/>
          <a:stretch/>
        </p:blipFill>
        <p:spPr>
          <a:xfrm>
            <a:off x="546120" y="1073160"/>
            <a:ext cx="29908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71600" y="5557680"/>
            <a:ext cx="8084880" cy="7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내리막에서는  속력을 얻고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오르막에서는 속력을 잃는다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.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그렇다면 수평면에서는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?</a:t>
            </a:r>
            <a:endParaRPr b="0" lang="en-US" sz="20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slope1"/>
          <p:cNvPicPr/>
          <p:nvPr/>
        </p:nvPicPr>
        <p:blipFill>
          <a:blip r:embed="rId2"/>
          <a:stretch/>
        </p:blipFill>
        <p:spPr>
          <a:xfrm>
            <a:off x="0" y="0"/>
            <a:ext cx="91663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28480" y="5548320"/>
            <a:ext cx="8087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수평면에서는 속력을 얻지도 잃지도 않으므로</a:t>
            </a:r>
            <a:r>
              <a:rPr b="0" lang="en-US" sz="1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일정한 운동이 영원히 지속될 것이다</a:t>
            </a:r>
            <a:r>
              <a:rPr b="0" lang="en-US" sz="1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.</a:t>
            </a:r>
            <a:endParaRPr b="0" lang="en-US" sz="1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slope2"/>
          <p:cNvPicPr/>
          <p:nvPr/>
        </p:nvPicPr>
        <p:blipFill>
          <a:blip r:embed="rId2"/>
          <a:stretch/>
        </p:blipFill>
        <p:spPr>
          <a:xfrm>
            <a:off x="826920" y="1484280"/>
            <a:ext cx="75600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2160" y="769680"/>
            <a:ext cx="8086680" cy="30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지구의 운동을 변호하기 위한 노력</a:t>
            </a: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99680" y="3951360"/>
            <a:ext cx="803916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관성 개념을 기초로 한 새로운 역학을 탄생시킴</a:t>
            </a:r>
            <a:endParaRPr b="0" lang="en-US" sz="28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2160" y="769680"/>
            <a:ext cx="8086680" cy="27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아직도 남은 과제</a:t>
            </a:r>
            <a:endParaRPr b="0" lang="en-US" sz="66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99680" y="3827520"/>
            <a:ext cx="8039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0360"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물체는 왜 우주의 중심이 아닌 지구를 향해 떨어지는가</a:t>
            </a:r>
            <a:r>
              <a:rPr b="0" lang="en-US" sz="22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?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질문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다른 사람들과 달리 케플러와 갈릴레오는 왜 일찍부터 코페르니쿠스주의를 수용했을까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?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케플러와 갈릴레오의 연구 이후 코페르니쿠스주의자가 늘어난 것은 어떻게 이해할 수 있을까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?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케플러와 갈릴레오의 노력에도 불구하고 설득되지 않은 사람들이 있다는 것은 어떻게 이해할 수 있을까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?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강의와 글에 대해 자유롭게 코멘트 또는 질문을 해보자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2160" y="769680"/>
            <a:ext cx="8086680" cy="13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여전히 남아 있는 해결 과제</a:t>
            </a: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9680" y="2371680"/>
            <a:ext cx="803916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우주의 중심에 지구가 있는 것이 아니라면</a:t>
            </a:r>
            <a:r>
              <a:rPr b="0" lang="en-US" sz="22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,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그리고 지구가 태양 주위를 선회하고 있다면</a:t>
            </a:r>
            <a:r>
              <a:rPr b="0" lang="en-US" sz="22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, 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물체는 왜 우주의 중심이 아닌 지구를 향해 떨어지는가</a:t>
            </a:r>
            <a:r>
              <a:rPr b="0" lang="en-US" sz="2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?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우리는 왜 지구의 운동을 인식하지 못하는가</a:t>
            </a:r>
            <a:r>
              <a:rPr b="0" lang="en-US" sz="2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?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수직으로 쏘아 올린 화살은 왜 뒤처지지 않는가</a:t>
            </a:r>
            <a:r>
              <a:rPr b="0" lang="en-US" sz="2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?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갈릴레오와 망원경으로부터 온 증거들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187" name="Picture 4" descr="g_telescope"/>
          <p:cNvPicPr/>
          <p:nvPr/>
        </p:nvPicPr>
        <p:blipFill>
          <a:blip r:embed="rId2"/>
          <a:stretch/>
        </p:blipFill>
        <p:spPr>
          <a:xfrm>
            <a:off x="4705200" y="0"/>
            <a:ext cx="3789360" cy="5313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upload.wikimedia.org/wikipedia/commons/thumb/d/d4/Justus_Sustermans_-_Portrait_of_Galileo_Galilei%2C_1636.jpg/225px-Justus_Sustermans_-_Portrait_of_Galileo_Galilei%2C_1636.jpg"/>
          <p:cNvPicPr/>
          <p:nvPr/>
        </p:nvPicPr>
        <p:blipFill>
          <a:blip r:embed="rId3"/>
          <a:stretch/>
        </p:blipFill>
        <p:spPr>
          <a:xfrm>
            <a:off x="574560" y="0"/>
            <a:ext cx="41306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울퉁불퉁한 달 표면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192" name="Picture 3" descr="g_sidnun_moon"/>
          <p:cNvPicPr/>
          <p:nvPr/>
        </p:nvPicPr>
        <p:blipFill>
          <a:blip r:embed="rId2"/>
          <a:stretch/>
        </p:blipFill>
        <p:spPr>
          <a:xfrm>
            <a:off x="565200" y="912960"/>
            <a:ext cx="79293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태양의 흑점 변화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196" name="Picture 3" descr="galileo sunspot"/>
          <p:cNvPicPr/>
          <p:nvPr/>
        </p:nvPicPr>
        <p:blipFill>
          <a:blip r:embed="rId2"/>
          <a:stretch/>
        </p:blipFill>
        <p:spPr>
          <a:xfrm>
            <a:off x="487440" y="565200"/>
            <a:ext cx="4084560" cy="4206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sketches on sunspot"/>
          <p:cNvPicPr/>
          <p:nvPr/>
        </p:nvPicPr>
        <p:blipFill>
          <a:blip r:embed="rId3"/>
          <a:stretch/>
        </p:blipFill>
        <p:spPr>
          <a:xfrm>
            <a:off x="4633920" y="565200"/>
            <a:ext cx="42084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목성의 위성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01" name="Picture 5" descr="jupconfig"/>
          <p:cNvPicPr/>
          <p:nvPr/>
        </p:nvPicPr>
        <p:blipFill>
          <a:blip r:embed="rId2"/>
          <a:stretch/>
        </p:blipFill>
        <p:spPr>
          <a:xfrm>
            <a:off x="4330800" y="52560"/>
            <a:ext cx="4228920" cy="511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http://zolaist.org/wiki/images/5/56/%EB%AA%A9%EC%84%B1%EC%9D%98_%EC%9C%84%EC%84%B1_%EC%9A%B4%EB%8F%99%EC%9D%84_%EA%B8%B0%EB%A1%9D%ED%95%9C_%EA%B0%88%EB%A6%B4%EB%A0%88%EC%98%A4%EC%9D%98_%EB%85%B8%ED%8A%B8.jpg"/>
          <p:cNvPicPr/>
          <p:nvPr/>
        </p:nvPicPr>
        <p:blipFill>
          <a:blip r:embed="rId3"/>
          <a:stretch/>
        </p:blipFill>
        <p:spPr>
          <a:xfrm>
            <a:off x="568440" y="52560"/>
            <a:ext cx="36385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4. 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금성의 위상 변화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06" name="Picture 4" descr="venus-ptolemaic"/>
          <p:cNvPicPr/>
          <p:nvPr/>
        </p:nvPicPr>
        <p:blipFill>
          <a:blip r:embed="rId2"/>
          <a:stretch/>
        </p:blipFill>
        <p:spPr>
          <a:xfrm>
            <a:off x="439560" y="146160"/>
            <a:ext cx="4154760" cy="49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7" name="Picture 5" descr="venus-copernican"/>
          <p:cNvPicPr/>
          <p:nvPr/>
        </p:nvPicPr>
        <p:blipFill>
          <a:blip r:embed="rId3"/>
          <a:stretch/>
        </p:blipFill>
        <p:spPr>
          <a:xfrm>
            <a:off x="4689360" y="146160"/>
            <a:ext cx="4156200" cy="49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금성 위상 변화 </a:t>
            </a: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결정적 증거</a:t>
            </a: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?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1171440" y="-6480"/>
          <a:ext cx="7020000" cy="533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1440" y="-6480"/>
                    <a:ext cx="7020000" cy="53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8T01:35:57Z</dcterms:created>
  <dc:creator>정동욱</dc:creator>
  <dc:description/>
  <dc:language>en-US</dc:language>
  <cp:lastModifiedBy>zolaist</cp:lastModifiedBy>
  <dcterms:modified xsi:type="dcterms:W3CDTF">2015-03-20T02:47:13Z</dcterms:modified>
  <cp:revision>50</cp:revision>
  <dc:subject/>
  <dc:title>아리스토텔레스의 과학적 우주론</dc:title>
</cp:coreProperties>
</file>